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BDC-05F6-4B16-8A52-0AC06A97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BB1-91C3-4D5B-BB69-5933CCE8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74A-1DBF-4248-9D0D-55B57F30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F3B-5E6F-4AD7-B14C-A8E2871D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2F7-F548-4888-9F7F-18939CB2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406-E1D5-45E8-9230-7D50DBD5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A68-2E2D-4F2C-B03D-EBB96971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B0B-E644-4D29-85C0-14DF8386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B7A-041C-4A71-9A8C-2B3786CC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2FA-D1D7-4612-B939-A76F59D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EE4-F8C7-4487-8DB6-C16CF0DD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719-91AB-4E35-AF35-3C93AD73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B905-F0EE-48C2-863C-36F17678F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cal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california/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law.ou.edu/hist/flags/stflagalmo.shtml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90610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steveperrygems.com/gems/benito.ht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5029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ryn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1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221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5029200"/>
            <a:ext cx="2749680" cy="149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60958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4114800"/>
            <a:ext cx="4876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Sac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33,871,6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September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850. Also, 3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Eureka, I have found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The Golde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The Golden Po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The California Valley Qu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I love you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Named by the Spanish after “Califa” a mythical paradise in Spanish romance. Written by Montalvo in 15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19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Fl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477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ities: Los Angeles, San Diego, San Jose, San Francisco, and Long B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ree: California Red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 or Gemstone: Benito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: Native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or Stone: Serpen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is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ggest state. Texas and Alaska are bi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for the residents is: The Californ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3865320" cy="42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5181480"/>
            <a:ext cx="3886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californi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724280" y="914400"/>
            <a:ext cx="3962520" cy="2895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81480" y="5105520"/>
            <a:ext cx="3733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s, Fla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aw.ou.edu/hist/flags/stflagalmo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4267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648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ll images Copyright © 1997 - 2000 WriteLine. All Rights Reserved. Golden Gate Bridge"/>
          <p:cNvPicPr/>
          <p:nvPr/>
        </p:nvPicPr>
        <p:blipFill>
          <a:blip r:embed="rId1"/>
          <a:stretch/>
        </p:blipFill>
        <p:spPr>
          <a:xfrm>
            <a:off x="152280" y="457200"/>
            <a:ext cx="510552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5257800"/>
            <a:ext cx="4267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lden Gate Bri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06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sty winds of the Golden Gate Bri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410080" y="533520"/>
            <a:ext cx="3353040" cy="3276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520" y="5562720"/>
            <a:ext cx="3886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PerryGem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nito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eveperrygems.com/gems/benit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5720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California’s main gem or gemstone called the Benito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California Valley Quail"/>
          <p:cNvPicPr/>
          <p:nvPr/>
        </p:nvPicPr>
        <p:blipFill>
          <a:blip r:embed="rId1"/>
          <a:stretch/>
        </p:blipFill>
        <p:spPr>
          <a:xfrm>
            <a:off x="152280" y="228600"/>
            <a:ext cx="350532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276720"/>
            <a:ext cx="327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 Bi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http://www.50states.com/bird/quai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267440" cy="2514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29200" y="3429000"/>
            <a:ext cx="3809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http://www.50states.com/flower/californ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438280" y="4267080"/>
            <a:ext cx="1416240" cy="243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91120" y="5867280"/>
            <a:ext cx="4647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 T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http://www.50states.com/tree/californ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8954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Bi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048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Fl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5:23Z</dcterms:created>
  <dc:creator>install</dc:creator>
  <dc:description/>
  <dc:language>en-US</dc:language>
  <cp:lastModifiedBy>install</cp:lastModifiedBy>
  <dcterms:modified xsi:type="dcterms:W3CDTF">2012-04-16T13:05:52Z</dcterms:modified>
  <cp:revision>16</cp:revision>
  <dc:subject/>
  <dc:title> </dc:title>
</cp:coreProperties>
</file>